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829-1111-459A-8FCD-085907A4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EE1D-F67A-475E-8FBB-26E362841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50D-BC47-447F-9CC0-67B9FB56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336-8EBC-4C4D-ACBF-2EE79A19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C530-CEDE-4C6B-9F64-A497A2D7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9B12-AEE2-4F5A-A005-F5A7A5A4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AFF3-FD44-4802-8F24-63549D23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7896-22FC-435F-857D-A8662B2E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DD83-E06B-4586-B453-1A816360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098A-90B4-4C39-A5E7-412883A3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FA4-AD8F-4AB2-9D05-27984004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7622-6680-407F-BE4C-28F86CC9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6BE8-961A-449D-A24C-0076935E69A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2958-4571-41AC-A13B-3130569CF1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Communications Circ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4-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Typical Performance Comparison for Crystal Oscillator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Picture 11" descr="tab04_01.jpg"/>
          <p:cNvPicPr/>
          <p:nvPr/>
        </p:nvPicPr>
        <p:blipFill>
          <a:blip r:embed="rId1"/>
          <a:stretch/>
        </p:blipFill>
        <p:spPr>
          <a:xfrm>
            <a:off x="228600" y="1436760"/>
            <a:ext cx="8686800" cy="38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c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uctors and capacitors exhibit react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ifests as opposition to current flow in ac circuits; measured in oh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quantity expressed in ohms ultimately defined as ratio of voltage to curr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c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rectly proportional to both inductance and frequen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acitive react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rsely proportional to both frequency and capacit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actical Inductors and Capacito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u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re energy in surrounding magnetic field; lose energy in their winding resistanc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aci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re energy in electric field between plates; lose energy from leakage between plat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on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uctive and capacitive reactances are equ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Bandpass Fil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ter’s quality factor provides a measure of how selective (narrow) its passband is compared to its center frequ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allel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Circu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times called tank circu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ergy is stored in each reactive element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, first in one and then released to the oth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ypes of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il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ant-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il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pacitive and inductive reactances made equal to constant value,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derived fil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uned circuit in filter to provide nearly infinite attenuation at a specific frequen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ypes of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Fil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ll-o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te of attenuation is steepness of filter’s response curv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gh-Frequency Eff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ple wire exhibits small amount of inductance; longer the wire, greater the induct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nimize all lead lengths in RF circui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ystal Fil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ed to exhibit very high values of Q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d performance possible when two or more crystals combined in a single filter circu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plifi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asses of Ampl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plifi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s one or more active devices to increase voltage or current amplitude of electrical signal applied to its inpu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ified by amount of time during each input cycle that active device within circuit conducts curr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ramic Fil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tilize piezoelectric effect as crystals do; constructed from lead zirconate-titanat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cost, rugged, smaller size than crystal filt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chanical Fil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chanically resonant; receives electrical energy, converts it to mechanical vibration, then converts mechanical energy back into electrical energy as the outp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-Selective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AW Filt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rn variant of mechanical filter; surface-acoustic-wave (SAW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in high-quality, analog color televis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y on surface effects in piezoelectric materi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xing and Multiplication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plitude modulation is a form of mixing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ix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or more signals applied to nonlinear dev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xing and Multiplication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equency/phase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ication of carrier and intelligence signa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lanced Modula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ress the carrier, leaving only two sideban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Mixing and Multiplication Circuit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C Balanced Modula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erior component-matching characteristics obtainable when devices fabricated on same silicon chip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 Detec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common method of detecting SSB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Phase-Locked Loop and Frequency Synthe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ase-Locked Loop (PLL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feedback control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ractor Dio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s as variable capacitor in oscillator tank circu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Phase-Locked Loop and Frequency Synthe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L Capture and Lock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L in lock whenever VCO frequency matched to the refere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ture range contains frequencies over which PLL circuit can initially acquire loc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Phase-Locked Loop and Frequency Synthe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equency Synthe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L frequency synthesizer allows a range of frequencies to be generated from stable, single-frequency reference (crystal-controlled oscillator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Phase-Locked Loop and Frequency Synthe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grammable Divi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common programmable dividers are decades or divide-by-16 count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rious logic fami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MOS and TT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plifi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asses of Ampl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ion angle defines portion of input signal during which active device is turned 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Phase-Locked Loop and Frequency Synthesi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wo-Modulus Divid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one mode synthesizer divides by N and in the other mode, by N + 1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rect Digital Synthesis (DD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roves on repeatability and drift problems of analog units that require select-by-test compon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mited maximum output frequency and greater complexity/cost consider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plifi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asses of Ampl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linear form; active device conducts current over full 360° of input cycle; ineffici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duction angle of 180°; active device conducts for exactly half of each input cycle; nonlinear, but efficiency improved over class 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mplifi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asses of Ampl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e brief, high-energy pulses at output of active device; efficiencies in excess of 75%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witching amplifiers; rely in part on principle of pulse-width modu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scillat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scilla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tes waveform by converting direct-current energy to alternating current; first stages of transmitt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oice of oscillator type based o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09440" indent="-2124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utput frequency requir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9440" indent="-2124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equency stability requir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9440" indent="-2124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nge of frequency variability, if need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9440" indent="-2124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owable waveform distor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09440" indent="-2124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wer output requir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scillat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C Oscilla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allel-resonant circu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ically feedback amplifiers; feedback serving to increase or sustain self-generated outp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scillat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C Oscilla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d-back signal in phase with input sig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iteria for oscil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rkhausen criter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s of oscilla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rtley, Colpitts, Clapp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scillato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ystal Oscilla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piezoelectric crystal as inductive element of LC circui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ystal (usually quartz) has resonant frequency of its ow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mum performance obtained when coupled with external capacit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4-1: Typical Performance Comparison for Crystal Oscilla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11:54Z</dcterms:modified>
  <cp:revision>5</cp:revision>
  <dc:subject/>
  <dc:title>Slide 1</dc:title>
</cp:coreProperties>
</file>